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072-FB9E-4AA6-8C2C-88B15315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67F-A394-4AC3-A630-AB6E1004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6D6-196D-4115-9C1F-2DC0BD9F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282-72E7-4351-8BC5-4ED5399B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CC7-1054-48E2-8320-B8A9D408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1E8-0298-4800-BF4E-C9DC2082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7B8-B986-49E3-AD09-E1E771B7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4F1-6B1F-4310-9505-18AC20E7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77A-1E45-443F-B494-4F4C79D5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4E7-86BD-4197-A3BF-0AC872DE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61FC-819A-492C-B0C7-9B2113FA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DD5-C439-40D4-B6AB-135E7C53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5831-DF76-45D4-9290-520C9F789FB8}" type="slidenum">
              <a:rPr b="0" lang="en-GB" sz="1400" spc="-1" strike="noStrike">
                <a:solidFill>
                  <a:srgbClr val="99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Comic Sans MS"/>
              </a:rPr>
              <a:t>Advertisements</a:t>
            </a:r>
            <a:endParaRPr b="0" lang="en-US" sz="6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914400" y="1600200"/>
            <a:ext cx="701028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Persuasive Writing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66"/>
                </a:solidFill>
                <a:latin typeface="Comic Sans MS"/>
              </a:rPr>
              <a:t>Advertisements are a special type of persuasive writing.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ir purpose is to sell a product or a service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y do this by aiming at a particular type of customer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y use carefully chosen, positive language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y appeal to some aspect of the reader’s personality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66"/>
                </a:solidFill>
                <a:latin typeface="Comic Sans MS"/>
              </a:rPr>
              <a:t>They try to make the reader believe that their product will make them: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 rot="20206200">
            <a:off x="529920" y="2590560"/>
            <a:ext cx="18190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Happier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 rot="1218000">
            <a:off x="1917720" y="3160080"/>
            <a:ext cx="22003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Healthier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 rot="21349200">
            <a:off x="3335400" y="2525760"/>
            <a:ext cx="19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Slimmer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 rot="21292200">
            <a:off x="6501600" y="3885120"/>
            <a:ext cx="1981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More</a:t>
            </a:r>
            <a:r>
              <a:rPr b="0" lang="en-GB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beautifu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 rot="794400">
            <a:off x="3574800" y="4265640"/>
            <a:ext cx="2057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More</a:t>
            </a:r>
            <a:r>
              <a:rPr b="0" lang="en-GB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intelligent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 rot="20467800">
            <a:off x="390960" y="3884400"/>
            <a:ext cx="2514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More fashio</a:t>
            </a: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n</a:t>
            </a: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able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 rot="20851200">
            <a:off x="4489560" y="338256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Successful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 rot="682200">
            <a:off x="5460480" y="2016000"/>
            <a:ext cx="29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More comfortable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685800" y="5715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 envy of all their </a:t>
            </a: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friends</a:t>
            </a: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 rot="844800">
            <a:off x="6621120" y="5103720"/>
            <a:ext cx="2057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Less</a:t>
            </a:r>
            <a:r>
              <a:rPr b="0" lang="en-GB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stressed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Comic Sans MS"/>
              </a:rPr>
              <a:t>They use carefully chosen language to appeal to their target audience.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 rot="21103200">
            <a:off x="837000" y="228636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Special</a:t>
            </a:r>
            <a:r>
              <a:rPr b="1" lang="en-GB" sz="2400" spc="-1" strike="noStrike">
                <a:solidFill>
                  <a:srgbClr val="990099"/>
                </a:solidFill>
                <a:latin typeface="Comic Sans MS"/>
              </a:rPr>
              <a:t> Offer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 rot="102000">
            <a:off x="3500280" y="22093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99"/>
                </a:solidFill>
                <a:latin typeface="Comic Sans MS"/>
              </a:rPr>
              <a:t>The </a:t>
            </a: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Best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 rot="20496600">
            <a:off x="6020280" y="2209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99"/>
                </a:solidFill>
                <a:latin typeface="Comic Sans MS"/>
              </a:rPr>
              <a:t>Number One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 rot="20661600">
            <a:off x="1295280" y="4038120"/>
            <a:ext cx="2286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Exclusive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 rot="931200">
            <a:off x="3424320" y="320004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Free</a:t>
            </a:r>
            <a:r>
              <a:rPr b="1" lang="en-GB" sz="2400" spc="-1" strike="noStrike">
                <a:solidFill>
                  <a:srgbClr val="990099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 rot="1128600">
            <a:off x="6324120" y="4648320"/>
            <a:ext cx="17766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Bargain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048120" y="54864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99"/>
                </a:solidFill>
                <a:latin typeface="Comic Sans MS"/>
              </a:rPr>
              <a:t>Guaranteed </a:t>
            </a: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Result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 rot="20436600">
            <a:off x="5870160" y="5410080"/>
            <a:ext cx="2286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Look No Further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 rot="972600">
            <a:off x="3047760" y="4114440"/>
            <a:ext cx="2286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Cheaper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 rot="857400">
            <a:off x="374760" y="5105160"/>
            <a:ext cx="228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99"/>
                </a:solidFill>
                <a:latin typeface="Comic Sans MS"/>
              </a:rPr>
              <a:t>The </a:t>
            </a: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Total</a:t>
            </a:r>
            <a:r>
              <a:rPr b="1" lang="en-GB" sz="2400" spc="-1" strike="noStrike">
                <a:solidFill>
                  <a:srgbClr val="990099"/>
                </a:solidFill>
                <a:latin typeface="Comic Sans MS"/>
              </a:rPr>
              <a:t> Exper</a:t>
            </a: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990099"/>
                </a:solidFill>
                <a:latin typeface="Comic Sans MS"/>
              </a:rPr>
              <a:t>ence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 rot="730200">
            <a:off x="609120" y="3352320"/>
            <a:ext cx="1143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Cool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8" name="Text Box 16"/>
          <p:cNvSpPr/>
          <p:nvPr/>
        </p:nvSpPr>
        <p:spPr>
          <a:xfrm rot="20039400">
            <a:off x="4191120" y="4723920"/>
            <a:ext cx="14475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Smart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9" name="Text Box 17"/>
          <p:cNvSpPr/>
          <p:nvPr/>
        </p:nvSpPr>
        <p:spPr>
          <a:xfrm rot="21216600">
            <a:off x="5562360" y="3352320"/>
            <a:ext cx="2286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Latest Fashion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70" name="Text Box 18"/>
          <p:cNvSpPr/>
          <p:nvPr/>
        </p:nvSpPr>
        <p:spPr>
          <a:xfrm rot="19687200">
            <a:off x="2695680" y="2560680"/>
            <a:ext cx="761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Fun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71" name="Text Box 19"/>
          <p:cNvSpPr/>
          <p:nvPr/>
        </p:nvSpPr>
        <p:spPr>
          <a:xfrm rot="1077600">
            <a:off x="7086240" y="3123720"/>
            <a:ext cx="16002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Genuine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Comic Sans MS"/>
              </a:rPr>
              <a:t>They promise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to cure all your ailments;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To solve all your problems;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To change your life for the better.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914400" y="4114800"/>
            <a:ext cx="73152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99"/>
                </a:solidFill>
                <a:latin typeface="Comic Sans MS"/>
              </a:rPr>
              <a:t>They make you feel that you can’t live without it.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Comic Sans MS"/>
              </a:rPr>
              <a:t>How do they attract your attention and stick in your memory?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They can use humour to get you in a good mood;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They ask questions to hook you in;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They appeal to your senses;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They use alliteration, rhyme or a play on words to create a memorable slogan;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They persuade you to imagine yourself using their product;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They make you feel special.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Comic Sans MS"/>
              </a:rPr>
              <a:t>Advertisements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y contain a mix of facts and persuasive comment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y focus on the positive and ignore the negative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y use exaggerated language, full of adjectives and adverbs to paint an appealing picture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y start sentences with the imperative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y ask rhetorical questions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y use memorable images and slogans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ir sole purpose is to convince the reader to buy their product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2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15:14:10Z</dcterms:created>
  <dc:creator>M Howden</dc:creator>
  <dc:description/>
  <dc:language>en-US</dc:language>
  <cp:lastModifiedBy>Giulia SGARBOSSA</cp:lastModifiedBy>
  <dcterms:modified xsi:type="dcterms:W3CDTF">2013-02-08T04:19:50Z</dcterms:modified>
  <cp:revision>25</cp:revision>
  <dc:subject/>
  <dc:title>Persuasive Writing</dc:title>
</cp:coreProperties>
</file>